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7A1-EDCC-4AFD-9098-A72AF26C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C35B-B440-434A-811C-3C509CE7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9B6A-8B02-48C2-987F-E9E747BC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AE3-C382-4079-B121-B8B22380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B614-97BB-4059-9001-FBAC3AB7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2597-D013-4128-97C6-16E676EE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1BBD-4B81-4625-8E3F-45BDBE8A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3A95-54DD-4161-A9C2-A11E4819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47DF-D874-4955-ABC9-4E49B8C0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4647-D8C9-43DA-B5BB-0B939908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0B25-08CD-41F3-A58F-5880E765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4AA6-1163-41ED-9385-7342DDF8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099B-3E38-4C83-8438-BFD0CE65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62F7-E688-4F8E-84FF-44480652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550C-0BFE-4C25-88FF-08C7A0FC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FBE8-70A7-4FC1-83FC-2686AB3C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327D-8D6F-48A2-9C6F-A6AFAEAD3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8D1-ADC0-4752-B206-FB1A9688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0EE7-6943-4F97-BB39-2DCF4B62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CF40-E687-4DD7-AD9D-01F3E079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939-0310-4ACA-8E96-3C27ADD3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A2DF-8502-4E7A-A0FE-A8CC9B00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645B-2DB7-4F7A-86CA-B6DC17D9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9C7-3E71-40A2-A31F-6D27913D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C35C-39BC-459B-A66A-ED6DC772B333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6FDD-34F3-49C7-A4DD-C15CE4EBE2DC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ep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Morikawa Yasuhi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4 EPnetFan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netFaN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9999ff"/>
                </a:solidFill>
                <a:latin typeface="Tahoma"/>
              </a:rPr>
              <a:t>Earth and Planetaly science network FaNclub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ep.sci.hokudai.ac.jp/~epnetfan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ep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ep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ep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ep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ep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ep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ep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ep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ep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E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netFaN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作成した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(?)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ep.sci.hokudai.ac.jp/~morikawa/perl/epppt/epppt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移動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パスを通してもいいけど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298600" y="4586400"/>
            <a:ext cx="50878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eppp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9760" y="5689440"/>
            <a:ext cx="65815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epppt/epppt.pl /usr/local/bi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ep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ep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ep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ep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ep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ep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epppt3.3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563868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ep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ep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ep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ep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 靖大</cp:lastModifiedBy>
  <dcterms:modified xsi:type="dcterms:W3CDTF">2004-11-06T15:56:21Z</dcterms:modified>
  <cp:revision>54</cp:revision>
  <dc:subject/>
  <dc:title>PowerPoint スライドからの HTML 作成支援ツール epppt</dc:title>
</cp:coreProperties>
</file>