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97E89-4219-4C01-AB48-AEC6669C5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14F88-44BA-4F89-A5AE-4013BAA2E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E02A0-A594-45C6-B65C-C7EE49B65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83A54-6D74-40FA-9D52-3AF338881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46903-76B1-4E3E-B769-DF40368A1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2BA22-AD8F-406A-8B20-DDA9495EA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BD651-94E5-4124-8417-ED0DE2BB1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C80C8-0295-4F35-AE18-348D9E3D0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DBFA1-7746-4984-9C4E-DD2AB4566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4650D-CB6C-4732-93A3-99C1A1863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B9ACC-585A-48C8-8F41-C4C79CEA9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CDBEE-7858-48F9-8111-91C5231C0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2A06D-AA76-4021-92DB-FA5F53730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3566C-850A-452D-8BF0-E1E00B11A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40702-2501-44BD-92D1-B50BB4E1A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BE205-D4C2-4198-87F0-13A29289E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5EF26-C5C3-4ED1-94F4-FF5ECB1FD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5C0DA-E7F2-42FF-BA31-952582783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87589-614C-4366-8843-A1E11CF95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C61F4-D6DD-476C-8CBD-891D98C0E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84477-9CB6-4F6A-80F2-5B744B0A4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EA2F0-D908-4AB5-84EF-A1686044B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56629-6BC7-4629-BC1C-ABA53ADE4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C4899-429C-45E9-92A4-51FC7807F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E77B2-5B09-49FC-B4E2-116BBA126835}" type="slidenum">
              <a:rPr b="0" lang="ja-JP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145BA-461D-4CCD-B511-635288998527}" type="slidenum">
              <a:rPr b="0" lang="ja-JP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imagemagick.org/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002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333399"/>
                </a:solidFill>
                <a:latin typeface="Tahoma"/>
              </a:rPr>
              <a:t>PowerPoint </a:t>
            </a:r>
            <a:r>
              <a:rPr b="0" lang="ja-JP" sz="2800" spc="-1" strike="noStrike">
                <a:solidFill>
                  <a:srgbClr val="333399"/>
                </a:solidFill>
                <a:latin typeface="Tahoma"/>
              </a:rPr>
              <a:t>スライドの </a:t>
            </a:r>
            <a:r>
              <a:rPr b="0" lang="ja-JP" sz="2800" spc="-1" strike="noStrike">
                <a:solidFill>
                  <a:srgbClr val="333399"/>
                </a:solidFill>
                <a:latin typeface="Tahoma"/>
              </a:rPr>
              <a:t>HTML</a:t>
            </a:r>
            <a:r>
              <a:rPr b="0" lang="ja-JP" sz="2800" spc="-1" strike="noStrike">
                <a:solidFill>
                  <a:srgbClr val="333399"/>
                </a:solidFill>
                <a:latin typeface="Tahoma"/>
              </a:rPr>
              <a:t>化支援ツール</a:t>
            </a:r>
            <a:br>
              <a:rPr sz="2800"/>
            </a:br>
            <a:r>
              <a:rPr b="0" lang="ja-JP" sz="5400" spc="-1" strike="noStrike">
                <a:solidFill>
                  <a:srgbClr val="333399"/>
                </a:solidFill>
                <a:latin typeface="Tahoma"/>
              </a:rPr>
              <a:t>dcppt </a:t>
            </a:r>
            <a:r>
              <a:rPr b="0" lang="ja-JP" sz="2800" spc="-1" strike="noStrike">
                <a:solidFill>
                  <a:srgbClr val="333399"/>
                </a:solidFill>
                <a:latin typeface="Tahoma"/>
              </a:rPr>
              <a:t>version </a:t>
            </a:r>
            <a:r>
              <a:rPr b="0" lang="ja-JP" sz="3600" spc="-1" strike="noStrike">
                <a:solidFill>
                  <a:srgbClr val="333399"/>
                </a:solidFill>
                <a:latin typeface="Tahoma"/>
              </a:rPr>
              <a:t>1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762120" y="3885840"/>
            <a:ext cx="76960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Yasuhiro Morikaw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Copyright © 2005 GFD Dennou Club. All rights reserv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GFD Dennou Clu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http://www.gfd-dennou.org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タイトル、メニューを後で変更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タイトル変更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src/title.txt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内のタイトルを変更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再度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dcppt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実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メニューを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Page 001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などから変更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目次を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menu.txt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に書き込む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一応 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HTML 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形式の埋め込みは可能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再度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dcppt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実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"/>
          <p:cNvSpPr/>
          <p:nvPr/>
        </p:nvSpPr>
        <p:spPr>
          <a:xfrm>
            <a:off x="2209680" y="4724280"/>
            <a:ext cx="647712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001: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PowerPoint 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の 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HTML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化支援ツール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dcpp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002: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dcppt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とは？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                              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012: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謝辞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?? or 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参考資料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?? 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【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&lt;a href="http://www…"&gt;dcreal&lt;/a&gt;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、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...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】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039920" y="2971800"/>
            <a:ext cx="2162160" cy="39888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2000" spc="-1" strike="noStrike">
                <a:solidFill>
                  <a:srgbClr val="ffff00"/>
                </a:solidFill>
                <a:latin typeface="Lucida Console"/>
              </a:rPr>
              <a:t>dcppt.pl -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201840" y="6324480"/>
            <a:ext cx="2162160" cy="39888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2000" spc="-1" strike="noStrike">
                <a:solidFill>
                  <a:srgbClr val="ffff00"/>
                </a:solidFill>
                <a:latin typeface="Lucida Console"/>
              </a:rPr>
              <a:t>dcppt.pl -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凝りたい方へ 【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1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】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HTML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のスタイルの変更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まずは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dcppt.pl -x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として「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」で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Config.dc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Config.dcppt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編集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文字コード 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$jpc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スタイル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$style_mode 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文字色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$style_textcolor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、背景色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$style_bgcolor .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画像サイズ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$slidesize , $thumbsize ,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などなど…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再度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dcppt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実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"/>
          <p:cNvSpPr/>
          <p:nvPr/>
        </p:nvSpPr>
        <p:spPr>
          <a:xfrm>
            <a:off x="2064960" y="2895480"/>
            <a:ext cx="5032800" cy="131076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設定ファイルである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Config.dcppt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が見当たりません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1. dcppt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デフォルトの設定で処理をするなら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"y"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2.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処理を中断するなら                    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"n"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3. Config.dcppt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テンプレートを出力するなら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"m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を入力してください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[Y/n/m] : </a:t>
            </a:r>
            <a:r>
              <a:rPr b="0" lang="ja-JP" sz="1600" spc="-1" strike="noStrike">
                <a:solidFill>
                  <a:srgbClr val="ffff00"/>
                </a:solidFill>
                <a:latin typeface="ＭＳ ゴシック"/>
                <a:ea typeface="ＭＳ ゴシック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322440" y="6308640"/>
            <a:ext cx="2162160" cy="39888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2000" spc="-1" strike="noStrike">
                <a:solidFill>
                  <a:srgbClr val="ffff00"/>
                </a:solidFill>
                <a:latin typeface="Lucida Console"/>
              </a:rPr>
              <a:t>dcppt.pl -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凝りたい方へ 【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2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】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始めのページはサムネイルじゃなくて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ページ目に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メニューのページを文字にした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Config.dcppt 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の以下の部分を変更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3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テキストメニューいらな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画像メニューいらな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再度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dcppt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実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"/>
          <p:cNvSpPr/>
          <p:nvPr/>
        </p:nvSpPr>
        <p:spPr>
          <a:xfrm>
            <a:off x="4084560" y="6324480"/>
            <a:ext cx="2162160" cy="39888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2000" spc="-1" strike="noStrike">
                <a:solidFill>
                  <a:srgbClr val="ffff00"/>
                </a:solidFill>
                <a:latin typeface="Lucida Console"/>
              </a:rPr>
              <a:t>dcppt.pl -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133720" y="3200400"/>
            <a:ext cx="5333760" cy="11595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#$defaultleft  = "$menufile";     #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イメージメニュー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$defaultleft  = "$menutxtfile";  #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テキストメニュー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#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右ペー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#$defaultright = "$thumbnail_file";    #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サムネイル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$defaultright = "$htmldir/001.html";  # 1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ページ目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962520" y="5105520"/>
            <a:ext cx="4267080" cy="9464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#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メニューファイル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(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イメージ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)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要らない時は空に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$menufile = "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#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メニューファイル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(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テキスト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)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要らない方は 空に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$menutxtfile = "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参考資料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epp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(http://www.ep.sci.hokudai.ac.jp/~morikawa/perl/epppt/SIGEN_PUB.htm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dcppt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の前身だったツール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dcreal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(http://www.gfd-dennou.org/arch/cc-env/dcreal/SIGEN.ht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スライド表示の画面のアイディアを参考にさせて頂きました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dcphoto 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(http://www.ep.sci.hokudai.ac.jp/~totera/official/program/dcphoto/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サムネイル表示部分のソースやいろいろなアイディアを参考にさせて頂きました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dcppt 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とは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8080" y="20178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GFD </a:t>
            </a:r>
            <a:r>
              <a:rPr b="1" lang="ja-JP" sz="3600" spc="-1" strike="noStrike">
                <a:solidFill>
                  <a:srgbClr val="ff3300"/>
                </a:solidFill>
                <a:latin typeface="Tahoma"/>
              </a:rPr>
              <a:t>D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ennou </a:t>
            </a:r>
            <a:r>
              <a:rPr b="1" lang="ja-JP" sz="3600" spc="-1" strike="noStrike">
                <a:solidFill>
                  <a:srgbClr val="ff3300"/>
                </a:solidFill>
                <a:latin typeface="Tahoma"/>
              </a:rPr>
              <a:t>C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lub 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にてメンテナンスされている、</a:t>
            </a:r>
            <a:r>
              <a:rPr b="1" lang="ja-JP" sz="3600" spc="-1" strike="noStrike">
                <a:solidFill>
                  <a:srgbClr val="ff3300"/>
                </a:solidFill>
                <a:latin typeface="Tahoma"/>
              </a:rPr>
              <a:t>P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ower</a:t>
            </a:r>
            <a:r>
              <a:rPr b="1" lang="ja-JP" sz="3600" spc="-1" strike="noStrike">
                <a:solidFill>
                  <a:srgbClr val="ff3300"/>
                </a:solidFill>
                <a:latin typeface="Tahoma"/>
              </a:rPr>
              <a:t>P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oin</a:t>
            </a:r>
            <a:r>
              <a:rPr b="1" lang="ja-JP" sz="3600" spc="-1" strike="noStrike">
                <a:solidFill>
                  <a:srgbClr val="ff3300"/>
                </a:solidFill>
                <a:latin typeface="Tahoma"/>
              </a:rPr>
              <a:t>t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スライドの 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HTML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化支援ツール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特徴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ppt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スライドを誰もが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(PowerPoint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持ってない人も、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Windows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じゃ無い人も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見れるような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HTML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形式にす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PowerPoint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に限らず、画像化されているものをサムネイル化することが可能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動作環境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以下の環境で動作を確認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Debian GNU/Linux 3.0, 3.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たぶん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Linux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や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UNIX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なら動くはず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Windows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は自信がありません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入手 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&amp; 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インストール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1865160"/>
            <a:ext cx="7772400" cy="484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入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http://www.gfd-dennou.org/library/cc-env/dcppt/dcppt_current.tg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インストール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展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システムへインストール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2302560" y="4491000"/>
            <a:ext cx="6794640" cy="52056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2800" spc="-1" strike="noStrike">
                <a:solidFill>
                  <a:srgbClr val="ffff00"/>
                </a:solidFill>
                <a:latin typeface="Lucida Console"/>
              </a:rPr>
              <a:t>tar xvfz dcppt_current.tar.g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297160" y="5594400"/>
            <a:ext cx="2923920" cy="119124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2400" spc="-1" strike="noStrike">
                <a:solidFill>
                  <a:srgbClr val="ffff00"/>
                </a:solidFill>
                <a:latin typeface="Lucida Console"/>
              </a:rPr>
              <a:t>s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2400" spc="-1" strike="noStrike">
                <a:solidFill>
                  <a:srgbClr val="ffff00"/>
                </a:solidFill>
                <a:latin typeface="Lucida Console"/>
              </a:rPr>
              <a:t>cp dcppt-***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Lucida Console"/>
              </a:rPr>
              <a:t># </a:t>
            </a:r>
            <a:r>
              <a:rPr b="0" lang="ja-JP" sz="2400" spc="-1" strike="noStrike">
                <a:solidFill>
                  <a:srgbClr val="ffff00"/>
                </a:solidFill>
                <a:latin typeface="Lucida Console"/>
              </a:rPr>
              <a:t>make instal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596920" y="6035760"/>
            <a:ext cx="311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/usr/local/bin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以下に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←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インストールされ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依存する 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Tool 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群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040" y="2017440"/>
            <a:ext cx="80010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Perl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(dcppt.pl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は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version 5.6.1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で動作確認済み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ahoma"/>
                <a:ea typeface="ＭＳ ゴシック"/>
              </a:rPr>
              <a:t>※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dcppt.pl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の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perl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へのパスは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/usr/bin/perl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となっているので、システムによっては変更すること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(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エディタで直接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dcppt.pl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の頭の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#!/usr/bin/perl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を変更する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jcode.pl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ＭＳ ゴシック"/>
              </a:rPr>
              <a:t>perl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の日本語文字コード用ライブラリ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 u="sng">
                <a:solidFill>
                  <a:srgbClr val="ff0000"/>
                </a:solidFill>
                <a:uFillTx/>
                <a:latin typeface="Tahoma"/>
                <a:ea typeface="ＭＳ ゴシック"/>
                <a:hlinkClick r:id="rId1"/>
              </a:rPr>
              <a:t>ImageMagick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ＭＳ ゴシック"/>
              </a:rPr>
              <a:t>画像サイズ変換に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ＭＳ ゴシック"/>
              </a:rPr>
              <a:t>convert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を利用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作業概要 【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1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】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93400"/>
            <a:ext cx="77724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スライドを画像ファイルとして保存する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PowerPoint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の場合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PowerPoint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の「ファイル」→「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Web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ページで保存」 として、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「ファイルの種類」に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</a:rPr>
              <a:t>gif , jpeg , png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のどれかを選択する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「プレゼンテーションのスライドを全てエクスポートしますか？」を「はい」と答える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作業概要 【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2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】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040" y="2017800"/>
            <a:ext cx="8040600" cy="42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作成した画像を、ディレクトリ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フォルダ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ごと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perl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が動作するマシンへ移動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スライド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1.png ,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スライド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2.png , ..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ディレクトリ名変更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ディレクトリの名前を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src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に変更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dcppt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実行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src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ディレクトリのある場所で実行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"/>
          <p:cNvSpPr/>
          <p:nvPr/>
        </p:nvSpPr>
        <p:spPr>
          <a:xfrm>
            <a:off x="2824920" y="6126120"/>
            <a:ext cx="3350880" cy="58140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3200" spc="-1" strike="noStrike">
                <a:solidFill>
                  <a:srgbClr val="ffff00"/>
                </a:solidFill>
                <a:latin typeface="Lucida Console"/>
              </a:rPr>
              <a:t>dcppt.pl -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333880" y="4495680"/>
            <a:ext cx="4520520" cy="58140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3200" spc="-1" strike="noStrike">
                <a:solidFill>
                  <a:srgbClr val="ffff00"/>
                </a:solidFill>
                <a:latin typeface="Lucida Console"/>
              </a:rPr>
              <a:t>mv &lt;</a:t>
            </a:r>
            <a:r>
              <a:rPr b="0" lang="ja-JP" sz="3200" spc="-1" strike="noStrike">
                <a:solidFill>
                  <a:srgbClr val="ffff00"/>
                </a:solidFill>
                <a:latin typeface="Lucida Console"/>
              </a:rPr>
              <a:t>ディレクトリ</a:t>
            </a:r>
            <a:r>
              <a:rPr b="0" lang="ja-JP" sz="3200" spc="-1" strike="noStrike">
                <a:solidFill>
                  <a:srgbClr val="ffff00"/>
                </a:solidFill>
                <a:latin typeface="Lucida Console"/>
              </a:rPr>
              <a:t>&gt; sr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作業概要 【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3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】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040" y="2017440"/>
            <a:ext cx="80406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こんなことを聞かれるけど、そのまま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E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タイトル入力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出力出力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"/>
          <p:cNvSpPr/>
          <p:nvPr/>
        </p:nvSpPr>
        <p:spPr>
          <a:xfrm>
            <a:off x="1756800" y="2514600"/>
            <a:ext cx="6246000" cy="161856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設定ファイルである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Config.dcppt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が見当たりません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1. dcppt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デフォルトの設定で処理をするなら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"y"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2.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処理を中断するなら                    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"n"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3. Config.dcppt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テンプレートを出力するなら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"m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を入力してください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[Y/n/m] 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178360" y="4648320"/>
            <a:ext cx="5200200" cy="64260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タイトルを記入して下さい</a:t>
            </a:r>
            <a:r>
              <a:rPr b="0" lang="ja-JP" sz="18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8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Title []: </a:t>
            </a:r>
            <a:r>
              <a:rPr b="1" lang="ja-JP" sz="1800" spc="-1" strike="noStrike">
                <a:solidFill>
                  <a:srgbClr val="ffff00"/>
                </a:solidFill>
                <a:latin typeface="ＭＳ ゴシック"/>
                <a:ea typeface="ＭＳ ゴシック"/>
              </a:rPr>
              <a:t>スライドの </a:t>
            </a:r>
            <a:r>
              <a:rPr b="1" lang="ja-JP" sz="1800" spc="-1" strike="noStrike">
                <a:solidFill>
                  <a:srgbClr val="ffff00"/>
                </a:solidFill>
                <a:latin typeface="ＭＳ ゴシック"/>
                <a:ea typeface="ＭＳ ゴシック"/>
              </a:rPr>
              <a:t>HTML </a:t>
            </a:r>
            <a:r>
              <a:rPr b="1" lang="ja-JP" sz="1800" spc="-1" strike="noStrike">
                <a:solidFill>
                  <a:srgbClr val="ffff00"/>
                </a:solidFill>
                <a:latin typeface="ＭＳ ゴシック"/>
                <a:ea typeface="ＭＳ ゴシック"/>
              </a:rPr>
              <a:t>化支援ツール </a:t>
            </a:r>
            <a:r>
              <a:rPr b="1" lang="ja-JP" sz="1800" spc="-1" strike="noStrike">
                <a:solidFill>
                  <a:srgbClr val="ffff00"/>
                </a:solidFill>
                <a:latin typeface="ＭＳ ゴシック"/>
                <a:ea typeface="ＭＳ ゴシック"/>
              </a:rPr>
              <a:t>dcpp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431720" y="5791320"/>
            <a:ext cx="6795000" cy="94644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Creating HTML Files ...0, 1, 2, 3, 4, 5, 6, 7, 8, 9, 10, don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Creating Thumbnail File ...don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Complet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出来上がり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src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の隣に出来る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pub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の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index.html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を開くとこんな感じ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895400" y="3124080"/>
            <a:ext cx="6562800" cy="36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03T07:46:22Z</dcterms:created>
  <dc:creator>Morikawa Yasuhiro</dc:creator>
  <dc:description/>
  <dc:language>en-US</dc:language>
  <cp:lastModifiedBy>森川　靖大</cp:lastModifiedBy>
  <dcterms:modified xsi:type="dcterms:W3CDTF">2005-08-01T07:35:21Z</dcterms:modified>
  <cp:revision>59</cp:revision>
  <dc:subject/>
  <dc:title>PowerPoint スライドからの HTML 作成支援ツール epppt</dc:title>
</cp:coreProperties>
</file>